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40B-7C9B-4A2B-95E8-3BA1EF2C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EFB-6B8F-444F-BE02-D1C71CE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E12-CDD1-4A01-BD38-8EE30459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8F0-EBA9-468E-A15B-9D870F2A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6DD-435E-4710-B117-EB03FA0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0BF-97AD-4698-8267-A059E136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C3E-C49F-4E5D-A6AC-6305CB5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915-0A43-4E4F-945F-CB62C45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637-CDA5-4251-9315-0AB133F0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300-0770-47E9-B47D-607848D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E9F-093B-4DBB-98B8-C44AD23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385-75AF-4B65-A6CD-2C08F51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034A-B792-4071-B969-DFE98497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az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ch and 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5:35:12Z</dcterms:created>
  <dc:creator>freshman</dc:creator>
  <dc:description/>
  <dc:language>en-US</dc:language>
  <cp:lastModifiedBy>freshman</cp:lastModifiedBy>
  <dcterms:modified xsi:type="dcterms:W3CDTF">2008-03-18T15:35:18Z</dcterms:modified>
  <cp:revision>1</cp:revision>
  <dc:subject/>
  <dc:title>Pre-Columbian Civilaztions!</dc:title>
</cp:coreProperties>
</file>